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B353-A127-42A2-9B61-EBF3E231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0AD2-9CD7-4259-947D-92729369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257-9878-4712-93D7-28BC6870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1D0-3EF3-465B-896E-76442D11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6D1C-838B-411D-89F3-8A4FDC54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A52-C5BF-4168-857E-DDC11065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8FE3-9175-4738-AB3E-01B25F4E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01D-3838-4F05-84CF-7BFFAA82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3BB6-0C8F-4129-96A8-F0F5C414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7AF-283C-41B5-A3EA-8E74E4F0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A33-4759-4DAE-B727-9FD3E702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8161-F538-42C3-A8E6-B28FAF53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27BE-ADB1-4245-B484-EEB2427AA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1279440" y="1809720"/>
            <a:ext cx="655956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: Do a Bless Conference Fir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440" y="14475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n’t try to revise until you’ve gotten some feedback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nchanese\AppData\Local\Microsoft\Windows\Temporary Internet Files\Content.IE5\9MUQ803S\MC900230747[1].wmf"/>
          <p:cNvPicPr/>
          <p:nvPr/>
        </p:nvPicPr>
        <p:blipFill>
          <a:blip r:embed="rId1"/>
          <a:stretch/>
        </p:blipFill>
        <p:spPr>
          <a:xfrm>
            <a:off x="304920" y="3781440"/>
            <a:ext cx="4647960" cy="2849400"/>
          </a:xfrm>
          <a:prstGeom prst="rect">
            <a:avLst/>
          </a:prstGeom>
          <a:ln w="0">
            <a:noFill/>
          </a:ln>
        </p:spPr>
      </p:pic>
      <p:sp>
        <p:nvSpPr>
          <p:cNvPr id="45" name="PubOvalCallout"/>
          <p:cNvSpPr/>
          <p:nvPr/>
        </p:nvSpPr>
        <p:spPr>
          <a:xfrm flipH="1">
            <a:off x="3276000" y="2781360"/>
            <a:ext cx="3771720" cy="16002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the way, I’m tota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iterat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: Do the Revision Check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my audience obvious and specific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’s OK if your audience in “college” for now, but specific schools hel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my statement have an “angle”? Is it clear what I’m trying to get out of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what ways is my statement uniquel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Where are examples of my voice or unique perspective? Be able to li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re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nchanese\AppData\Local\Microsoft\Windows\Temporary Internet Files\Content.IE5\N3169SS1\MC900084292[1].wmf"/>
          <p:cNvPicPr/>
          <p:nvPr/>
        </p:nvPicPr>
        <p:blipFill>
          <a:blip r:embed="rId1"/>
          <a:stretch/>
        </p:blipFill>
        <p:spPr>
          <a:xfrm>
            <a:off x="7104240" y="5334120"/>
            <a:ext cx="203184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PubOvalCallout"/>
          <p:cNvSpPr/>
          <p:nvPr/>
        </p:nvSpPr>
        <p:spPr>
          <a:xfrm>
            <a:off x="6248520" y="5057640"/>
            <a:ext cx="1216080" cy="779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r qu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3: Rev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your statement better. Use feedback from yourself and oth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a address meeting to see if your changes are work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a shred meeting if you’re feeling “done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C:\Users\nchanese\AppData\Local\Microsoft\Windows\Temporary Internet Files\Content.IE5\9MUQ803S\MC900363048[1].wmf"/>
          <p:cNvPicPr/>
          <p:nvPr/>
        </p:nvPicPr>
        <p:blipFill>
          <a:blip r:embed="rId1"/>
          <a:stretch/>
        </p:blipFill>
        <p:spPr>
          <a:xfrm>
            <a:off x="6346800" y="4592520"/>
            <a:ext cx="2382840" cy="2265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Users\nchanese\AppData\Local\Microsoft\Windows\Temporary Internet Files\Content.IE5\V8YN1CYM\MC900111910[1].wmf"/>
          <p:cNvPicPr/>
          <p:nvPr/>
        </p:nvPicPr>
        <p:blipFill>
          <a:blip r:embed="rId2"/>
          <a:stretch/>
        </p:blipFill>
        <p:spPr>
          <a:xfrm>
            <a:off x="4114800" y="4592520"/>
            <a:ext cx="2698920" cy="2287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C:\Users\nchanese\AppData\Local\Microsoft\Windows\Temporary Internet Files\Content.IE5\N3169SS1\MC900441766[1].png"/>
          <p:cNvPicPr/>
          <p:nvPr/>
        </p:nvPicPr>
        <p:blipFill>
          <a:blip r:embed="rId3"/>
          <a:stretch/>
        </p:blipFill>
        <p:spPr>
          <a:xfrm>
            <a:off x="1371600" y="4191120"/>
            <a:ext cx="2743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2:20:28Z</dcterms:created>
  <dc:creator>Chanese, Nicholas</dc:creator>
  <dc:description/>
  <dc:language>en-US</dc:language>
  <cp:lastModifiedBy>Chanese, Nicholas</cp:lastModifiedBy>
  <dcterms:modified xsi:type="dcterms:W3CDTF">2011-06-02T13:34:56Z</dcterms:modified>
  <cp:revision>4</cp:revision>
  <dc:subject/>
  <dc:title>PowerPoint Presentation</dc:title>
</cp:coreProperties>
</file>